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media/image3.wmf" ContentType="image/x-wmf"/>
  <Override PartName="/ppt/media/image4.wmf" ContentType="image/x-wmf"/>
  <Override PartName="/ppt/media/chimes.wav" ContentType="audio/x-wav"/>
  <Override PartName="/ppt/media/gunshot.wav" ContentType="audio/x-wav"/>
  <Override PartName="/ppt/media/projctor.wav" ContentType="audio/x-wav"/>
  <Override PartName="/ppt/media/drumroll.wav" ContentType="audio/x-wav"/>
  <Override PartName="/ppt/media/clap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DBB13-011E-4FB4-9925-9954974C2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C7C17-C16D-4CD5-B120-1F3563980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FD00C-C2D3-4AE4-A2D2-51C8CB233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418A7-6354-4050-8534-3B7345680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49D43-DBAD-49A1-8ABB-BAA19CDAF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6F81D-6A9E-4CB0-B4AE-C900D09E3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5EB3F-4E5E-4122-9871-E2C4687D9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9E27D-48AB-4A4C-982E-9820686AB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61A1F-4FF8-4B25-AC0D-75F492201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4C00E-FE0A-4D56-B2E2-C521623E5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68CD8-6732-46D4-8A32-C02E0C72B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09D33-56D3-4A20-80A9-8F44F60DA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698CA-7C3F-4651-A0E4-7CFDBF3F1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955A3-1785-411F-84E1-5F51CF801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7757E-C24C-4F0F-A23F-E6C68211F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642C7-E8B6-4C33-AEA2-C01B472F9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F0608-F500-43C6-8C9C-BE4E46586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DB581-A14B-4862-8813-2BC5DB3A0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FF1A7-B04A-4F57-AADA-11C2CE278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7AE03-B38D-4B16-838A-0975207FE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09216-A8FE-4B41-BE01-C47961750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6E958-15B6-41F6-BB68-F9B27F386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75DD7-43C4-43EF-A339-2F0E374C6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CCBC0-BFF4-4080-893E-FB6540A90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Freeform 3"/>
            <p:cNvSpPr/>
            <p:nvPr/>
          </p:nvSpPr>
          <p:spPr>
            <a:xfrm>
              <a:off x="2590920" y="6120"/>
              <a:ext cx="2757240" cy="6878160"/>
            </a:xfrm>
            <a:prstGeom prst="pie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2880"/>
              <a:ext cx="2757600" cy="6872040"/>
            </a:xfrm>
            <a:prstGeom prst="pie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943600" y="7560"/>
              <a:ext cx="2760840" cy="6873480"/>
            </a:xfrm>
            <a:prstGeom prst="pie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3048120" y="0"/>
              <a:ext cx="3301920" cy="6864120"/>
            </a:xfrm>
            <a:prstGeom prst="pie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185760" y="168120"/>
              <a:ext cx="5562720" cy="243792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 flipH="1" rot="2703000">
              <a:off x="1285200" y="1230120"/>
              <a:ext cx="4038480" cy="16002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131760" y="91800"/>
              <a:ext cx="5562720" cy="243792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 rot="18703800">
              <a:off x="-1561680" y="1666080"/>
              <a:ext cx="5562360" cy="243828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 rot="19294800">
              <a:off x="2112840" y="1463040"/>
              <a:ext cx="5705640" cy="27540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 flipH="1" rot="2085000">
              <a:off x="2951280" y="1386720"/>
              <a:ext cx="5562360" cy="243828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6746760" y="2880"/>
              <a:ext cx="1729080" cy="36270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2590920" y="6294240"/>
              <a:ext cx="2757240" cy="605880"/>
            </a:xfrm>
            <a:prstGeom prst="pie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6294240"/>
              <a:ext cx="2757600" cy="604440"/>
            </a:xfrm>
            <a:prstGeom prst="pie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5943600" y="6294240"/>
              <a:ext cx="2760840" cy="605880"/>
            </a:xfrm>
            <a:prstGeom prst="pie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3048120" y="6294240"/>
              <a:ext cx="3301920" cy="604440"/>
            </a:xfrm>
            <a:prstGeom prst="pie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4100400" y="6233760"/>
              <a:ext cx="1644840" cy="66636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 flipH="1" rot="18897000">
              <a:off x="2358720" y="6182640"/>
              <a:ext cx="1682640" cy="76212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 flipH="1" rot="18897000">
              <a:off x="1215720" y="6182640"/>
              <a:ext cx="1682640" cy="76212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 flipH="1" rot="18897000">
              <a:off x="48240" y="6132960"/>
              <a:ext cx="1641240" cy="77292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flipV="1">
              <a:off x="913680" y="6221160"/>
              <a:ext cx="5638680" cy="68544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 flipH="1" flipV="1">
              <a:off x="380520" y="6221160"/>
              <a:ext cx="2438640" cy="68544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 flipH="1" flipV="1">
              <a:off x="4819680" y="6297480"/>
              <a:ext cx="2114640" cy="60768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 flipH="1" flipV="1">
              <a:off x="6324480" y="6221160"/>
              <a:ext cx="2438640" cy="68544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 flipH="1" flipV="1">
              <a:off x="5486400" y="6221160"/>
              <a:ext cx="3657600" cy="68544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75BF7-BF2F-4599-BBED-6B104D61FED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2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Freeform 3"/>
            <p:cNvSpPr/>
            <p:nvPr/>
          </p:nvSpPr>
          <p:spPr>
            <a:xfrm>
              <a:off x="2590920" y="-7920"/>
              <a:ext cx="2757240" cy="6878520"/>
            </a:xfrm>
            <a:prstGeom prst="pie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Freeform 4"/>
            <p:cNvSpPr/>
            <p:nvPr/>
          </p:nvSpPr>
          <p:spPr>
            <a:xfrm>
              <a:off x="0" y="-11160"/>
              <a:ext cx="2757600" cy="6872400"/>
            </a:xfrm>
            <a:prstGeom prst="pie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5"/>
            <p:cNvSpPr/>
            <p:nvPr/>
          </p:nvSpPr>
          <p:spPr>
            <a:xfrm>
              <a:off x="5943600" y="-6480"/>
              <a:ext cx="2760840" cy="6873840"/>
            </a:xfrm>
            <a:prstGeom prst="pie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6"/>
            <p:cNvSpPr/>
            <p:nvPr/>
          </p:nvSpPr>
          <p:spPr>
            <a:xfrm>
              <a:off x="3048120" y="-14400"/>
              <a:ext cx="3301920" cy="6864480"/>
            </a:xfrm>
            <a:prstGeom prst="pie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7"/>
            <p:cNvSpPr/>
            <p:nvPr/>
          </p:nvSpPr>
          <p:spPr>
            <a:xfrm>
              <a:off x="185760" y="154080"/>
              <a:ext cx="5562720" cy="243828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8"/>
            <p:cNvSpPr/>
            <p:nvPr/>
          </p:nvSpPr>
          <p:spPr>
            <a:xfrm flipH="1" rot="2703000">
              <a:off x="1285920" y="1215720"/>
              <a:ext cx="4038840" cy="16002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9"/>
            <p:cNvSpPr/>
            <p:nvPr/>
          </p:nvSpPr>
          <p:spPr>
            <a:xfrm>
              <a:off x="131760" y="77760"/>
              <a:ext cx="5562720" cy="243828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0"/>
            <p:cNvSpPr/>
            <p:nvPr/>
          </p:nvSpPr>
          <p:spPr>
            <a:xfrm rot="18703800">
              <a:off x="-1562400" y="1652400"/>
              <a:ext cx="5562720" cy="243828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11"/>
            <p:cNvSpPr/>
            <p:nvPr/>
          </p:nvSpPr>
          <p:spPr>
            <a:xfrm rot="19294800">
              <a:off x="2112840" y="1449000"/>
              <a:ext cx="5705640" cy="275436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Freeform 12"/>
            <p:cNvSpPr/>
            <p:nvPr/>
          </p:nvSpPr>
          <p:spPr>
            <a:xfrm flipH="1" rot="2085000">
              <a:off x="2950920" y="1372680"/>
              <a:ext cx="5562360" cy="243864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Freeform 13"/>
            <p:cNvSpPr/>
            <p:nvPr/>
          </p:nvSpPr>
          <p:spPr>
            <a:xfrm>
              <a:off x="6746760" y="-11160"/>
              <a:ext cx="1729080" cy="362736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Rectangle 14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Freeform 15"/>
            <p:cNvSpPr/>
            <p:nvPr/>
          </p:nvSpPr>
          <p:spPr>
            <a:xfrm>
              <a:off x="2590920" y="3948120"/>
              <a:ext cx="2757240" cy="606240"/>
            </a:xfrm>
            <a:prstGeom prst="pie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Freeform 16"/>
            <p:cNvSpPr/>
            <p:nvPr/>
          </p:nvSpPr>
          <p:spPr>
            <a:xfrm>
              <a:off x="0" y="3948120"/>
              <a:ext cx="2757600" cy="604800"/>
            </a:xfrm>
            <a:prstGeom prst="pie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Freeform 17"/>
            <p:cNvSpPr/>
            <p:nvPr/>
          </p:nvSpPr>
          <p:spPr>
            <a:xfrm>
              <a:off x="5943600" y="3948120"/>
              <a:ext cx="2760840" cy="606240"/>
            </a:xfrm>
            <a:prstGeom prst="pie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Freeform 18"/>
            <p:cNvSpPr/>
            <p:nvPr/>
          </p:nvSpPr>
          <p:spPr>
            <a:xfrm>
              <a:off x="3048120" y="3948120"/>
              <a:ext cx="3301920" cy="604800"/>
            </a:xfrm>
            <a:prstGeom prst="pie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Rectangle 19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Freeform 20"/>
            <p:cNvSpPr/>
            <p:nvPr/>
          </p:nvSpPr>
          <p:spPr>
            <a:xfrm>
              <a:off x="4100400" y="3887640"/>
              <a:ext cx="1644840" cy="66672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Freeform 21"/>
            <p:cNvSpPr/>
            <p:nvPr/>
          </p:nvSpPr>
          <p:spPr>
            <a:xfrm flipH="1" rot="18897000">
              <a:off x="2358720" y="3836880"/>
              <a:ext cx="1683000" cy="76176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Freeform 22"/>
            <p:cNvSpPr/>
            <p:nvPr/>
          </p:nvSpPr>
          <p:spPr>
            <a:xfrm flipH="1" rot="18897000">
              <a:off x="1215720" y="3836880"/>
              <a:ext cx="1683000" cy="76176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Freeform 23"/>
            <p:cNvSpPr/>
            <p:nvPr/>
          </p:nvSpPr>
          <p:spPr>
            <a:xfrm flipH="1" rot="18897000">
              <a:off x="47160" y="3786840"/>
              <a:ext cx="1641600" cy="77292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Freeform 24"/>
            <p:cNvSpPr/>
            <p:nvPr/>
          </p:nvSpPr>
          <p:spPr>
            <a:xfrm flipH="1" flipV="1">
              <a:off x="913680" y="3874320"/>
              <a:ext cx="5638680" cy="685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Freeform 25"/>
            <p:cNvSpPr/>
            <p:nvPr/>
          </p:nvSpPr>
          <p:spPr>
            <a:xfrm flipH="1" flipV="1">
              <a:off x="380520" y="3874320"/>
              <a:ext cx="2438640" cy="685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Freeform 26"/>
            <p:cNvSpPr/>
            <p:nvPr/>
          </p:nvSpPr>
          <p:spPr>
            <a:xfrm flipH="1" flipV="1">
              <a:off x="4819680" y="3950640"/>
              <a:ext cx="2114640" cy="60804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Freeform 27"/>
            <p:cNvSpPr/>
            <p:nvPr/>
          </p:nvSpPr>
          <p:spPr>
            <a:xfrm flipH="1" flipV="1">
              <a:off x="6324480" y="3874320"/>
              <a:ext cx="2438640" cy="685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Freeform 28"/>
            <p:cNvSpPr/>
            <p:nvPr/>
          </p:nvSpPr>
          <p:spPr>
            <a:xfrm flipH="1" flipV="1">
              <a:off x="5486400" y="3874320"/>
              <a:ext cx="3657600" cy="685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Rectangle 29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Rectangle 30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Rectangle 31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9" name="Picture 32" descr="D:\FRONTPAGE THEMES\BLITZ\BTZBUL1A.GIF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26801-AC25-4CFA-8F28-73668534305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lap.wav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4.wmf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audio" Target="../media/projctor.wav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audio" Target="../media/drumroll.wav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audio" Target="../media/gunshot.wav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cc00"/>
                </a:solidFill>
                <a:latin typeface="AdLib BT"/>
              </a:rPr>
              <a:t>Poetry Workshop</a:t>
            </a:r>
            <a:endParaRPr b="0" lang="en-US" sz="6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676520" y="4571640"/>
            <a:ext cx="6400800" cy="167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doniEF"/>
              </a:rPr>
              <a:t>Poetry is a way to put your feelings or expression into word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109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cc00"/>
                </a:solidFill>
                <a:latin typeface="AdLib BT"/>
              </a:rPr>
              <a:t>Refrain</a:t>
            </a:r>
            <a:endParaRPr b="0" lang="en-US" sz="6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doniEF"/>
              </a:rPr>
              <a:t>Repetitive line found throughout the poe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doniEF"/>
              </a:rPr>
              <a:t>Is usually found in the same place in each stanz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doniEF"/>
              </a:rPr>
              <a:t>Similar to the chorus in a so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dLib BT"/>
              </a:rPr>
              <a:t>Since Hanna Moved Away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5" name="Text Box 3"/>
          <p:cNvSpPr/>
          <p:nvPr/>
        </p:nvSpPr>
        <p:spPr>
          <a:xfrm>
            <a:off x="990720" y="198108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Text Box 4"/>
          <p:cNvSpPr/>
          <p:nvPr/>
        </p:nvSpPr>
        <p:spPr>
          <a:xfrm>
            <a:off x="380880" y="1143000"/>
            <a:ext cx="4343400" cy="37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he tires on my bike are flat…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he sky is grouchy gray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t least it sure feels like tha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ince Hanna moved away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hocolate ice cream tastes like prune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ecember’s come to stay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hey’ve taken back the Mays and Jun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ince Hanna moved awa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Text Box 7"/>
          <p:cNvSpPr/>
          <p:nvPr/>
        </p:nvSpPr>
        <p:spPr>
          <a:xfrm>
            <a:off x="4952880" y="1143000"/>
            <a:ext cx="3962520" cy="46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Flowers smell like halibu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Velvet feels like hay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very handsome dog’s a mut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ince Hanna moved away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Nothing’s fun to laugh abou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Nothing’s fun to play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hey call me, but I won’t come ou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ince Hanna moved away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udith Vior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Try one of these possible refrain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 my way to school tod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think I’ll stay in b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that was th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you ask 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y does it have to be m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laughed and giggled all d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723960"/>
            <a:ext cx="7772400" cy="91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AdLib BT"/>
              </a:rPr>
              <a:t>Poems can be...</a:t>
            </a: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doniEF"/>
              </a:rPr>
              <a:t>Free Vers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doniEF"/>
              </a:rPr>
              <a:t>Rhym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723960"/>
            <a:ext cx="7772400" cy="91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AdLib BT"/>
              </a:rPr>
              <a:t>Free Verse Poems...</a:t>
            </a: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doniEF"/>
              </a:rPr>
              <a:t>Do not rhym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doniEF"/>
              </a:rPr>
              <a:t>Do not have a patter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doniEF"/>
              </a:rPr>
              <a:t>Do not have a rhyth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doniEF"/>
              </a:rPr>
              <a:t>Do not have a structur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Picture 5" descr="C:\Program Files\Common Files\Microsoft Shared\Clipart\cagcat50\BD06662_.WMF"/>
          <p:cNvPicPr/>
          <p:nvPr/>
        </p:nvPicPr>
        <p:blipFill>
          <a:blip r:embed="rId5"/>
          <a:stretch/>
        </p:blipFill>
        <p:spPr>
          <a:xfrm>
            <a:off x="4648320" y="2352600"/>
            <a:ext cx="3809880" cy="337176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723960"/>
            <a:ext cx="7772400" cy="91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AdLib BT"/>
              </a:rPr>
              <a:t>Rhyming Poems...</a:t>
            </a: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doniEF"/>
              </a:rPr>
              <a:t>Rhym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doniEF"/>
              </a:rPr>
              <a:t>May have a patter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doniEF"/>
              </a:rPr>
              <a:t>Has a rhyth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doniEF"/>
              </a:rPr>
              <a:t>May have a structur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Picture 5" descr="C:\Program Files\Common Files\Microsoft Shared\Clipart\cagcat50\BD06675_.WMF"/>
          <p:cNvPicPr/>
          <p:nvPr/>
        </p:nvPicPr>
        <p:blipFill>
          <a:blip r:embed="rId5"/>
          <a:stretch/>
        </p:blipFill>
        <p:spPr>
          <a:xfrm>
            <a:off x="4889520" y="1981080"/>
            <a:ext cx="332748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109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cc00"/>
                </a:solidFill>
                <a:latin typeface="AdLib BT"/>
              </a:rPr>
              <a:t>Poetry Toolbox</a:t>
            </a:r>
            <a:endParaRPr b="0" lang="en-US" sz="6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doniEF"/>
              </a:rPr>
              <a:t>Word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doniEF"/>
              </a:rPr>
              <a:t>Rhyth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doniEF"/>
              </a:rPr>
              <a:t>Punctu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doniEF"/>
              </a:rPr>
              <a:t>Stanza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doniEF"/>
              </a:rPr>
              <a:t>Refrai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ut thruBlk="true"/>
    <p:sndAc>
      <p:stSnd>
        <p:snd r:embed="rId6" name="projctor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109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cc00"/>
                </a:solidFill>
                <a:latin typeface="AdLib BT"/>
              </a:rPr>
              <a:t>Words</a:t>
            </a:r>
            <a:endParaRPr b="0" lang="en-US" sz="6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doniEF"/>
              </a:rPr>
              <a:t>Choose the absolute best words for your poem.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doniEF"/>
              </a:rPr>
              <a:t>Use a thesaurus to replace dead word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doniEF"/>
              </a:rPr>
              <a:t>Think of your five senses; touch, taste, sight, hearing, and smell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109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cc00"/>
                </a:solidFill>
                <a:latin typeface="AdLib BT"/>
              </a:rPr>
              <a:t>Rhythm</a:t>
            </a:r>
            <a:endParaRPr b="0" lang="en-US" sz="6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doniEF"/>
              </a:rPr>
              <a:t>Poems with rhythm usually contain rhyming words at the ends of lin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doniEF"/>
              </a:rPr>
              <a:t>Specific syllables are stresse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doniEF"/>
              </a:rPr>
              <a:t>The rhyming follows a patter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doniEF"/>
              </a:rPr>
              <a:t>Rhyming dictionaries are helpful to create rhyth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ld"/>
    <p:sndAc>
      <p:stSnd>
        <p:snd r:embed="rId5" name="drumroll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109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cc00"/>
                </a:solidFill>
                <a:latin typeface="AdLib BT"/>
              </a:rPr>
              <a:t>Punctuation</a:t>
            </a:r>
            <a:endParaRPr b="0" lang="en-US" sz="6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doniEF"/>
              </a:rPr>
              <a:t>Is used to show the reader how to read the poe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doniEF"/>
              </a:rPr>
              <a:t>May not have any punctu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doniEF"/>
              </a:rPr>
              <a:t>May have commas, periods, question marks, and exclamation poin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doniEF"/>
              </a:rPr>
              <a:t>Needs to be consisten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109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cc00"/>
                </a:solidFill>
                <a:latin typeface="AdLib BT"/>
              </a:rPr>
              <a:t>Stanzas</a:t>
            </a:r>
            <a:endParaRPr b="0" lang="en-US" sz="6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doniEF"/>
              </a:rPr>
              <a:t>A divided section with a group of lin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doniEF"/>
              </a:rPr>
              <a:t>A format chosen by the poe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doniEF"/>
              </a:rPr>
              <a:t>May include a rhyming patter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4T19:02:27Z</dcterms:created>
  <dc:creator>David Huff</dc:creator>
  <dc:description/>
  <dc:language>en-US</dc:language>
  <cp:lastModifiedBy>... ...</cp:lastModifiedBy>
  <dcterms:modified xsi:type="dcterms:W3CDTF">2011-07-08T02:01:30Z</dcterms:modified>
  <cp:revision>13</cp:revision>
  <dc:subject/>
  <dc:title>Poetry Workshop</dc:title>
</cp:coreProperties>
</file>